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A9A8B0D-7168-4C6B-960B-FE80107A8E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jan matches OMI NO2 by finding the closest OMI measurement t the given ground station – no interpol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istance from the center of the pixel to the station varies approximately 6-60 km since the pixels vary in size across the sw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8ACF9-D182-4B31-9BAA-77F8D2C2E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F5631-1F56-4291-9D12-E052C269B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20813-2F0B-4AD7-AC93-33CFFE614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D6750-1E7D-4684-9ABC-0689A6658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799C3-30D6-46CB-BB2C-5AEA2C11E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FBD5B-E989-40E8-ADCA-4A4237B63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1CD5E-ADFA-41A0-8BAF-0C7F4441F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29089-015B-455B-B5B4-2AB119A83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9E663-AAB3-4DB5-A725-52B15DD53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24EBD-BC28-494E-A806-64A78E4FC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99A34-9C90-4F5B-A7A3-1E3963679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FF787-B5F8-4AF4-94A1-5D6A46DC7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C736E-1F2C-4EC1-90B1-E4DDA93F3F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95280" y="304560"/>
            <a:ext cx="64008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3D Air Quality System (3D-AQS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80880" y="4495320"/>
            <a:ext cx="4114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r. Jill Engel-Cox, Battel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hone: 703-875-214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-mail: engelcoxj@battelle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57200" y="1981080"/>
            <a:ext cx="8188200" cy="11131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4724280" y="4495680"/>
            <a:ext cx="41148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r. Amy K. Huff, Battel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hone: 703-875-297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-mail: huffa@battelle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5800" y="3352680"/>
            <a:ext cx="8077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:  Dr. Ray Hoff, University of Maryland, Baltimore Count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ff@umbc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76320" y="5867280"/>
            <a:ext cx="8991360" cy="80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914400" y="0"/>
            <a:ext cx="7238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NASA 3D-AQS Project: Purpo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33520" y="762120"/>
            <a:ext cx="8188200" cy="11127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533520" y="2057400"/>
            <a:ext cx="82296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grate NASA satellite and lidar data into EPA’s air quality data system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Q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Qu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de greater accessibility and usability of NASA satellite and lidar data to their us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de remote sensing data in horizontal and vertical dimensions to facilitate air quality forecasting and retrospective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NASA 3D-AQS Project: Current Initia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762120"/>
            <a:ext cx="8915400" cy="58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278640" indent="-278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 first datasets to AirQuest – QA in progres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9920" indent="-321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IS and GOES AOD matched to surface P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.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onitor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9920" indent="-321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IS AOD matched to CMAQ 12×12 and 36×36 k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gri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8640" indent="-27864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8640" indent="-278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veloping 3D visualization methods for remote sensing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8640" indent="-27864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8640" indent="-278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ferring IDEA content to operational NOAA s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8640" indent="-27864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8640" indent="-278640">
              <a:lnSpc>
                <a:spcPct val="90000"/>
              </a:lnSpc>
              <a:spcBef>
                <a:spcPts val="700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Prioritizing next datasets for inclusion in AirQuest, based on input from End User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0160" indent="-280440">
              <a:lnSpc>
                <a:spcPct val="90000"/>
              </a:lnSpc>
              <a:spcBef>
                <a:spcPts val="601"/>
              </a:spcBef>
              <a:buClr>
                <a:srgbClr val="3333ff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Ground-based lid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0160" indent="-280440">
              <a:lnSpc>
                <a:spcPct val="90000"/>
              </a:lnSpc>
              <a:spcBef>
                <a:spcPts val="601"/>
              </a:spcBef>
              <a:buClr>
                <a:srgbClr val="3333ff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OMI tropospheric NO</a:t>
            </a:r>
            <a:r>
              <a:rPr b="0" lang="en-US" sz="2400" spc="-1" strike="noStrike" baseline="-25000">
                <a:solidFill>
                  <a:srgbClr val="3333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0160" indent="-280440">
              <a:lnSpc>
                <a:spcPct val="90000"/>
              </a:lnSpc>
              <a:spcBef>
                <a:spcPts val="601"/>
              </a:spcBef>
              <a:buClr>
                <a:srgbClr val="3333ff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OMI-derived tropospheric O</a:t>
            </a:r>
            <a:r>
              <a:rPr b="0" lang="en-US" sz="2400" spc="-1" strike="noStrike" baseline="-25000">
                <a:solidFill>
                  <a:srgbClr val="3333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0160" indent="-280440">
              <a:lnSpc>
                <a:spcPct val="90000"/>
              </a:lnSpc>
              <a:spcBef>
                <a:spcPts val="601"/>
              </a:spcBef>
              <a:buClr>
                <a:srgbClr val="3333ff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CALIPSO aerosol extinction pro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0160" indent="-280440">
              <a:lnSpc>
                <a:spcPct val="90000"/>
              </a:lnSpc>
              <a:spcBef>
                <a:spcPts val="601"/>
              </a:spcBef>
              <a:buClr>
                <a:srgbClr val="3333ff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MISR A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8937"/>
          <a:stretch/>
        </p:blipFill>
        <p:spPr>
          <a:xfrm>
            <a:off x="5943600" y="4800600"/>
            <a:ext cx="3067200" cy="177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5562720" y="152280"/>
            <a:ext cx="2590560" cy="187488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4419720" cy="1447920"/>
          </a:xfrm>
          <a:prstGeom prst="rect">
            <a:avLst/>
          </a:prstGeom>
          <a:noFill/>
          <a:ln w="9360">
            <a:solidFill>
              <a:srgbClr val="3333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Times New Roman"/>
              </a:rPr>
              <a:t>OMI Tropospheric Column NO</a:t>
            </a:r>
            <a:r>
              <a:rPr b="1" lang="en-US" sz="3600" spc="-1" strike="noStrike" baseline="-25000">
                <a:solidFill>
                  <a:srgbClr val="3333ff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21337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MI tropospheric N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easurements are rated #2 in importance by 3D-AQS End Users – big interes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th GSFC’s “Standard Product” and KNMI’s “Near Real-Time Product” wanted by 3D-AQS End Us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are currently working with Bojan Bojkov at GSFC to match “Standard Product” N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ata to EPA N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urface measurements from station monitor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ginning with Summer 2005 OMI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2_V002 OMI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wath produ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reening for cloud fraction &gt; 3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6T21:04:45Z</dcterms:created>
  <dc:creator>Battelle</dc:creator>
  <dc:description/>
  <dc:language>en-US</dc:language>
  <cp:lastModifiedBy>sf</cp:lastModifiedBy>
  <dcterms:modified xsi:type="dcterms:W3CDTF">2007-10-30T16:05:25Z</dcterms:modified>
  <cp:revision>48</cp:revision>
  <dc:subject/>
  <dc:title>Slide 1</dc:title>
</cp:coreProperties>
</file>